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C6D6-051F-4663-B702-68CE0154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5BB9-B0C0-48E0-BF32-20F391B7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8BA2-9B71-46AA-AF3A-1510202D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DA63-F38E-4A3E-86AB-85DBFF6E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ECEB-085B-4D93-BC07-B684C850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35B2-54BB-4D59-8D2B-C8C0CFDB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2B45-9DF9-4755-9C63-1FB1625D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0B3D-5354-427A-8F51-AE45020F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84F2-BE5D-4995-8BD5-A20E3675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8C6D-B405-48A7-9F7D-85517091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A8F7-6BBD-49F2-BBF1-98781486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7E6B-F202-4CC5-8B4E-3265BA44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A0CB-5A6F-4C2C-8DD2-09D890A7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E031-ED00-4482-A0DF-BC495F99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D46E-8F21-4A96-ADAA-4D55C945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2518-2308-41F8-AD14-FCD22D1C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7355-A730-48CF-BA89-F62393D4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CF6B-D40E-4905-89D9-D8315ADC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4F02-AF5B-4D48-943F-1612F3EE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382B-DA6B-4C3E-93BA-EAE427A6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F33B-5677-49CD-A628-41C52B9D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EB25-674A-4F43-BFED-516724E3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D45A-2481-4F52-83C8-28458840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B29-63E9-48AC-B63F-0E96FE80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ADA6-7CDF-4218-8DD8-96E1E7F7BFB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03FB-5196-4251-8D11-A1744B988A7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ngui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Ayanna Fook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o you think Penguins are cool? Well read more to learn about them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581280" y="2982960"/>
            <a:ext cx="1322640" cy="892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2409840" y="2971800"/>
            <a:ext cx="37623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nguins are hatched from an egg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eggs need to stay warm before they’re hatch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828800" y="3809880"/>
            <a:ext cx="45831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nguins live in Antarctica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800600" y="2514600"/>
            <a:ext cx="2394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nguins eat krill and squid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y also like to eat fish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895480" y="2971800"/>
            <a:ext cx="35449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Penguins are very cool.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14544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0T20:10:51Z</dcterms:modified>
  <cp:revision>4</cp:revision>
  <dc:subject/>
  <dc:title>Animal Name</dc:title>
</cp:coreProperties>
</file>